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6654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3E06-75D5-4261-BC99-530E3A27B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238-F3A1-42EE-A301-73E6AAD4B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639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8EEF-6173-4C8B-B532-413466CE5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639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B3D-2B21-4633-9B07-A2C16D7A8E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37ED-C0D5-496F-8AB3-EB28C4085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A129-5194-4DEF-87DA-02FBE4ADE1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627960"/>
            <a:ext cx="9150480" cy="22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38160" y="65833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G - Sardeg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7912440" y="65786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889280" y="6629400"/>
            <a:ext cx="6019560" cy="225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1854360" y="6581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kouter@jive.n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63040" y="1166760"/>
            <a:ext cx="8062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at version </a:t>
            </a:r>
            <a:r>
              <a:rPr b="0" i="1" lang="en-US" sz="2400" spc="-1" strike="noStrike">
                <a:solidFill>
                  <a:srgbClr val="ff8000"/>
                </a:solidFill>
                <a:latin typeface="Arial"/>
              </a:rPr>
              <a:t>2.5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e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http://www.jive.nl/~verkout/evlb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list of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k5C support 9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e to the FS “it’s a Mark5B” and it wil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okkeeping issue discovered after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ffects 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ime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” query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an label format policy enforced: EXP_ST_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non-conforming scan labels will be chang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ent data loss due to StreamSto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ord pointer being re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AZON can create non-8-byte length recor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5copy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/ FlexBuff recording dotting i’s + crossing t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25320" y="30492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merican Typewriter"/>
              </a:rPr>
              <a:t>jive5ab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 curren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67000" y="1484280"/>
            <a:ext cx="624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ed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DK9.4 / 64 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Debian Wheezy (released Ju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0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n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decent Pyth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n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odern O/S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ems fine at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ield test with a real data record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64560" y="30492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merican Typewriter"/>
              </a:rPr>
              <a:t>jive5ab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 / Mark5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88960" y="30312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m5copy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8480" y="1700280"/>
            <a:ext cx="808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at v1.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ed the possibility to read data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lescope input “in://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emory buffer “mem://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nning with “-b” option, extract from live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24 Mbps 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only on AMAZ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hardwa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50520" y="30312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SErase.py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2080" y="1700280"/>
            <a:ext cx="797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at v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ed suggestions following Jan 2014 TOG adv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workarounds for StreamSto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53040" y="30312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Distribution of pyth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77160" y="170028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in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urce distribution (current at that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download links always point at latest ver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jive.nl/~verkout/evlbi/m5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jive.nl/~verkout/evlbi/SSErase.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8:02:07Z</dcterms:created>
  <dc:creator>Harro Verkouter</dc:creator>
  <dc:description/>
  <dc:language>en-US</dc:language>
  <cp:lastModifiedBy>Harro Verkouter</cp:lastModifiedBy>
  <dcterms:modified xsi:type="dcterms:W3CDTF">2014-10-05T08:34:18Z</dcterms:modified>
  <cp:revision>169</cp:revision>
  <dc:subject/>
  <dc:title>PowerPoint Presentation</dc:title>
</cp:coreProperties>
</file>